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0D6-FAC2-4215-AB42-7B80FF2E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033-4F46-4F4A-BA4F-991B9D0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DF5-FEFA-4B1C-807D-4C0CEFEF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B62-EA11-47C9-BBA3-D4D799C5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AB41-3BD4-4C8A-B75D-F46C951A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DC0D-DCB9-40FC-9348-55BEF7DD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90B6-FB18-419C-A437-837C698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0AED-CE58-4264-834A-43CAD2A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E131-4DAC-4838-81D4-8949A46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064-17A2-4B43-B488-3436D07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0C20-B27E-45A3-93CB-8067D2A8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BC5-B2B0-4BC3-B65B-C0FBE7FE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2416-0940-462B-BE91-6E35120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6B6F-5649-4A42-ABAD-614190E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19B1-C4A9-4089-B6F6-542BDF2B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DD6E-FEFA-4539-BD0D-59FC239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38A-5EF2-4AFE-BCC4-5D46D7E8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39976-A0B5-47B0-BB05-CC58AAD3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3C470-4901-4845-9A39-87DD479D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0B0F1-F0FD-4E7B-810D-3B9F350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450CF-5982-4096-B9B6-F10A7338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12403-63E4-413E-82E6-B89448BE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894-5BCF-4EEF-9611-AA027E2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9CD23-BBFB-4687-B4C4-D73522E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B0345-FBF7-4970-B0FE-A2624FB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FFDFE-CCDC-48B3-8E64-0D2BC1F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90D1B-E24D-4488-BE87-BEDB898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394AC-FD10-4F2A-863F-DB2BE95B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C3E0C-4DE6-401B-9D7E-76FF9DA6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15ED7-388B-43A1-8A91-85167F7E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04B4-CBE6-4FA7-8CA6-588394D6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9381-8E6D-404A-96F5-47E8D0B4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1A42-C596-4197-B59D-C096CBD7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3D6-60F0-45EF-BD17-00230C20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6F13-F4DE-426C-A72C-50DA0234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7815-8237-4F57-AB07-FAD5287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F52B-0895-4CE3-9C69-1B06173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0D0B-9CCB-4598-AD4F-AB3FD12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0CEE-59BF-452D-B1A3-BBFC6CD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CE4D-1A4D-49E6-8CE0-6C0C1D1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526E-0FBE-4025-A712-301EEAA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2B35-A0A7-4ADC-AC0B-CEE786FF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4DA8-D153-4475-9DB9-C9830EDB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35E-08C7-467D-9DF4-1B0ECB95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A47-E2F4-4BB5-8326-EF464AF1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C6B-95AB-4008-8DC7-91AE3C6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034-0754-4076-8A3E-0B7C7A1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848-0DC4-4F44-9295-EF14EDBD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A5B-0D7F-469F-9CA2-942418FC23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049-AB92-4FF0-A056-DBA553B5B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E5E7-F6DC-467E-9818-6499A7BB2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8219-54D3-4CEB-882B-CC254CDA84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lecting a Reader and a Tex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Selecting a Reader – Lucky for YOU!  As part of this program – you already will be assigned a reader!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 and running – NEXT WEEK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WILL NEE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ape Record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rke Reading Interview (copy to write on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arent Letter with contact inf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few of your own questions to ask read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Selecting a Reader – Lucky for YOU!  As part of this program – you already will be assigned a reader!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 and running – NEXT WEEK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needs – talk a bit with student...before administering BR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information needed – ask ques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proficient reader*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 Da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rke Reading Inventory (p. 273/27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Survey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Confere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lecting a tex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te tex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familiar to reader but familiar conce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ightly challe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esting to stud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gen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iction must have a story l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nfiction must develop at least one concept or fully describe an act or ev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um of 500 words (two books for younger reader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xt Features to Consi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xity of concep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est to the rea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predictable beginn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eaks in the traditional sequence of ev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tion that is irrelevant to the entire tex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usual punctuation or pri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familiar language features (including dialec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 and unfamiliar inform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paring the Typescrip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uld look just like original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e length, spelling, punctu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a large font (at least 1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iple space between lines and between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olid horizontal line to signify the end of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mber the lines for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repare Retelling Guide 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(p. 51/260/271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charact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ev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tt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additional space for a plot summary and the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n-fi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main concep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tai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idea of passag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our Tas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several texts for features that support and impe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examples of texts that may create barriers for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there texts that you use, for example, that you find many students miscue in the same places?  Could this be an issue with the tex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2:28:55Z</dcterms:created>
  <dc:creator>College of Education</dc:creator>
  <dc:description/>
  <dc:language>en-US</dc:language>
  <cp:lastModifiedBy>Zoe Cassady</cp:lastModifiedBy>
  <dcterms:modified xsi:type="dcterms:W3CDTF">2010-01-28T19:56:24Z</dcterms:modified>
  <cp:revision>13</cp:revision>
  <dc:subject/>
  <dc:title>Selecting a Reader and a Text</dc:title>
</cp:coreProperties>
</file>